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308-EF44-4EC1-BFE7-D144726B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8F9-BF06-4807-BA0D-2A756FF4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108-EE36-4E0E-BD5B-8CD5C992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DD6-4DBC-4D8C-BC9F-D9740D5A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FE2-D50E-4E64-AB3A-32C92B9D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39A-39C4-4451-B88B-140D92D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F29-221F-4F6A-A526-67617B98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AC9-7000-4139-9CB2-61D69B23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3C6-667D-4017-933A-1FC61FCF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7D4-8007-455A-8104-023C497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8F1-294B-4B89-A275-204D9D7E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1DA-0418-4FBA-BD1F-B00C4767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92AB-8E64-4652-AB9E-EFDCFFD185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73160"/>
            <a:ext cx="9180360" cy="5861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819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brança e Gestão de Recursos Hídricos no Estado do Rio de Janei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0"/>
            <a:ext cx="5976360" cy="1125000"/>
            <a:chOff x="3203640" y="0"/>
            <a:chExt cx="5976360" cy="112500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203640" y="0"/>
              <a:ext cx="5976360" cy="11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203640" y="462960"/>
              <a:ext cx="3562200" cy="65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143000"/>
            <a:ext cx="8229600" cy="55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IRHI: Sistema Estadual de Informações, Cadastro e Outo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GIS Baía da Guanab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poio BID / MMA /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ntegração com a A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poio a AGEVAP / CEIV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aboração do Plano do Gua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nvênio ANA / SER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Reestruturação d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Gestão dos Canais de Ca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atibilização CEUA / GESTIN / SI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ituação do Comitê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14400"/>
            <a:ext cx="861084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3501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tês instituí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Estadual do Guandu: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cia do Macaé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Lagos-São João: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Aprovados pelo CERH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751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a Baía da Guanabara 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Comitê do rio Piaba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749"/>
              </a:spcBef>
              <a:spcAft>
                <a:spcPts val="1749"/>
              </a:spcAft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Comissões pró-comit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Dois Rios (Serra-N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Oeste da Baía de Guana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a foz do ri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50000"/>
              </a:lnSpc>
              <a:spcBef>
                <a:spcPts val="1349"/>
              </a:spcBef>
              <a:buClr>
                <a:srgbClr val="4ee13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Courier New"/>
              </a:rPr>
              <a:t>o</a:t>
            </a:r>
            <a:r>
              <a:rPr b="1" lang="pt-BR" sz="2400" spc="-1" strike="noStrike">
                <a:solidFill>
                  <a:srgbClr val="4ee131"/>
                </a:solidFill>
                <a:latin typeface="Comic Sans MS"/>
                <a:ea typeface="Times New Roman"/>
              </a:rPr>
              <a:t>     Bacia do rio Maca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tuação do Comitês: regulamentação do Art. 10 da Lei 3239/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676520"/>
            <a:ext cx="8001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10  –  Para fins de gestão de Recursos Hídricos, o território do Estado do Rio de Janeiro fica dividido em Regiões Hidrográficas (RH’s), conforme regulam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Art. 52, em seu Parágrafo Único, define que cada CBH terá como área de atuação e jurisdição a totalidade de uma bacia hidrográfica de curso d’água de primeira ou segunda ordem; ou um grupo de bacias hidrográficas contígu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posta Modelo de Governanç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Bacias Estaduais Costeir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52480"/>
            <a:ext cx="8229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tribuir às agências personalidade jurídica própria: mandato legal imune às mudanças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nsórcios de bacia: boa experiência entretanto pode haver esvaziamento com implantação d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Entidade delegatária/ OSC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poio/Integração com as Agências Regionais da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Modelo não impõe limitações à organização de comitês (bacias, sub-bac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05120"/>
            <a:ext cx="822960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rço/2003: Cobrança nos rios de domínio da União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/ Deliberação CN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Janeiro /2004: Cobrança nos rios de domínio estadual da Bacia do Paraíba do S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Base Legal: Resolução CEIVAP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447920"/>
            <a:ext cx="845820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 partir de Março/2004: Cobrança por metodologia provisória nas demais bacias “estadua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Lei 4247/2003 (disposições transitó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Implantada pela SER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Abril/2005: Cobrança na Bacia do Guandu por metodologia aprovada pelo Comit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Resolução Comitê Guandu / Resolução CER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Em implantação pela SERLA / Negociação Comitê, SERLA e Usuários (CEDA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mic Sans MS"/>
              </a:rPr>
              <a:t>Cobrança Transposição Paraíba do Sul/Sistema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Base Legal: Art.11, Lei 4247/2003 - 15% arrecadação Bacia do Guan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Comic Sans MS"/>
              </a:rPr>
              <a:t>Grupo de Trabalho CERHI/CEIVAP/Comitê Guandu/SERLA/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brança pelo uso da água no Estado do Rio de Jane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220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90920" y="1371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52480" y="4556160"/>
            <a:ext cx="4953240" cy="230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41148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ecadação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7848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 integração entre os instrumentos de gestão de recursos hídricos nas esferas Federal e Estadual é uma norma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ioneirismo do Estado Rio de Janei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Ex.: aprovação de deliberação pelo CEIVAP para aplicação dos recursos da cobrança estadual do Rio de Janeiro, inclusive com verba para o fortalecimento da agência da bacia do Paraíba do Sul, a AGEV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47840" y="228600"/>
            <a:ext cx="674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plicação dos Recursos da Cob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78483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ção e manutenção de Secretaria Executiva para o Comitê Guand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ase Legal: Resolução Comitê/Resoluçã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nstrumento contratual: Convênio com a UFRRJ (ERJ não tem contrato de gest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enda 2005 /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523880"/>
            <a:ext cx="82296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ASTAR” dinheiro da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soluções dos Comitês aprovadas pelo CER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repasse de recursos do FUNDO para Comitês e SE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peracionalizar depósito automático da CFURH no F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mplantar demais Comitês: Deliberação CERHI sobre base territorial de gest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otar Comitês de Secretaria Executiva e Planos de B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1:58:36Z</dcterms:created>
  <dc:creator>Marilene</dc:creator>
  <dc:description/>
  <dc:language>en-US</dc:language>
  <cp:lastModifiedBy>aluno</cp:lastModifiedBy>
  <dcterms:modified xsi:type="dcterms:W3CDTF">2005-04-18T14:50:42Z</dcterms:modified>
  <cp:revision>2</cp:revision>
  <dc:subject/>
  <dc:title>Slide sem título </dc:title>
</cp:coreProperties>
</file>